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686"/>
                </a:solidFill>
                <a:latin typeface="Arial Black"/>
              </a:rPr>
              <a:t>Click to move the slide</a:t>
            </a:r>
            <a:endParaRPr b="0" lang="en-US" sz="48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37F4-2218-4329-A4FE-E2A6B8C73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first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7734-0FE1-4D01-9F3A-EC81F7EB9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1660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A506-C353-4EEF-AAC2-F3CFECAE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1660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1660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A8D3-A24D-4840-9DA0-B772C061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1660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1660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1660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63DA-E3CD-4E6B-9508-0E57D409D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CD73-AF01-4EBB-89E0-43B0D9AF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F0DA-86AD-43B0-9AD9-7CAAEEA0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E4F1-F389-4CE1-B5A8-CB58950F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E394-23C2-4A8C-BBDA-3CE6F8E5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4B70-DC3A-4774-AEF4-1A07B7D7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17F7-67C7-4DBC-ABB5-0EB84F68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1660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3BD7-51C8-49B7-A599-93F4FF9C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D01C-EDD2-4EB0-B603-972AD54F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1660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67CC-C4EC-45AF-A98B-D4815F09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1660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804B-011F-41A2-9300-AE2E5A02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1660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8B1A-5806-4A4F-A5AB-CE887D4C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1660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1660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1BAF-5B29-48BA-AA99-97F47762A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1660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1660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1660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5AA8-5423-48E4-9761-AAAA1325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E9F8-AD76-4EE2-A067-B706426E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993D-4B1D-4A12-9397-C9A9E714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2195-9CEF-4918-BCA6-0F9FA81F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5853-FDCC-4FB7-B080-777BB231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1660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A1E5-0B7A-4D92-89D6-40F9AF78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1660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C02A-7D8F-4D6A-AD43-C20CAAB8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1660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11D8-F836-495C-93FA-6961CE69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c68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0199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9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0199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A055-8A7D-45E1-B0C9-7DB42D87685A}" type="slidenum">
              <a:rPr b="0" lang="en-US" sz="1000" spc="-1" strike="noStrike">
                <a:solidFill>
                  <a:srgbClr val="cc9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3673440"/>
            <a:ext cx="617220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686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9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594360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62940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4569-0A4F-4473-83CC-B5C90EE0B206}" type="slidenum">
              <a:rPr b="0" lang="en-US" sz="1000" spc="-1" strike="noStrike">
                <a:solidFill>
                  <a:srgbClr val="cc9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99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1065960"/>
            <a:ext cx="3124080" cy="6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Culture</a:t>
            </a:r>
            <a:endParaRPr b="0" lang="en-US" sz="48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0" y="5714640"/>
            <a:ext cx="4114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c686"/>
                </a:solidFill>
                <a:latin typeface="Arial Black"/>
              </a:rPr>
              <a:t>An important point to remember…</a:t>
            </a:r>
            <a:endParaRPr b="0" lang="en-US" sz="36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Although culture is ‘handed down’ from one generation to the next, it is not the same as genetics.  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r example, physical traits like broad shoulders or personal qualities like a love of music are not cultural.  They are not considered cultural.  However, the clothes you wear, or the songs you enjoy ARE cultural.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Arial Black"/>
              </a:rPr>
              <a:t>Meeting our needs…</a:t>
            </a: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We all have 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hysical needs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– food, water, shelter, clothing, and safety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motional needs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– friendship, belonging, love, self-esteem, knowledge, excitement, self-expression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Arial Black"/>
              </a:rPr>
              <a:t>Culture meeting needs…</a:t>
            </a: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In the 1780s, some of the Loyalist settlers in Atlantic Canada were saved from starvation by members of the First Nations who brought them meat to eat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PEI has powerful winds, and researchers at Atlantic Wind Test Site have experimented with ways to use wind to produce electricity. 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28600" y="22856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ere is a large community of Celtic background in Cape Breton, Nova Scotia. By celebrating their music, sports and crafts, members of the community seek to preserve their Celtic heritage.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Arial Black"/>
              </a:rPr>
              <a:t>Culture meeting needs…</a:t>
            </a: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c686"/>
                </a:solidFill>
                <a:latin typeface="Arial Black"/>
              </a:rPr>
              <a:t>Culture gets “INSTITUTIONALIZED”</a:t>
            </a:r>
            <a:endParaRPr b="0" lang="en-US" sz="36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Not all of your culture comes from individuals.  Much of our life is spent in institutions.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INSTITUTIONS are organizations with social, educational and religious purposes.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c686"/>
                </a:solidFill>
                <a:latin typeface="Arial Black"/>
              </a:rPr>
              <a:t>Culture gets “INSTITUTIONALIZED”</a:t>
            </a:r>
            <a:endParaRPr b="0" lang="en-US" sz="36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At your table group, come up with as many examples of cultural </a:t>
            </a:r>
            <a:r>
              <a:rPr b="0" i="1" lang="en-US" sz="3200" spc="-1" strike="noStrike">
                <a:solidFill>
                  <a:srgbClr val="cc9900"/>
                </a:solidFill>
                <a:latin typeface="Arial"/>
              </a:rPr>
              <a:t>institutions </a:t>
            </a: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as possible.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c686"/>
                </a:solidFill>
                <a:latin typeface="Arial Black"/>
              </a:rPr>
              <a:t>Let’s Get Personal…</a:t>
            </a: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What’s your heritage?  Where are your family “roots”?  In what ways are these cultural roots expressed in your life?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In what other ways (social, institutional, religious, etc) do you express your personal culture?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What do YOU do in your spare time?  Explain how what you do is a reflection of your culture.  You could approach this as a brief ‘Day in the Life of….’Be sure to include some of your ‘institutions of socialization’.  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c686"/>
                </a:solidFill>
                <a:latin typeface="Arial Black"/>
              </a:rPr>
              <a:t>What About You???</a:t>
            </a: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Arial Black"/>
              </a:rPr>
              <a:t>Answer these questions:</a:t>
            </a: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What is culture?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Is culture important? Why/why not?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Arial Black"/>
              </a:rPr>
              <a:t>Defining</a:t>
            </a:r>
            <a:r>
              <a:rPr b="0" lang="en-US" sz="4000" spc="-1" strike="noStrike">
                <a:solidFill>
                  <a:srgbClr val="f2c686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993300"/>
                </a:solidFill>
                <a:latin typeface="Arial Black"/>
              </a:rPr>
              <a:t>Culture</a:t>
            </a: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2285640"/>
            <a:ext cx="8763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ulture is a reflection of who and what we are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It is everything connected with the way humans live in groups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It is arts and entertainment, as well as beliefs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Organizations and behaviour patterns are all part of culture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Arial Black"/>
              </a:rPr>
              <a:t>Culture includes our:</a:t>
            </a: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hysical environmen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History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olitical life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ocial life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conomic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ife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Arial Black"/>
              </a:rPr>
              <a:t>Some examples of culture:</a:t>
            </a: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ocial rules  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eg. “Don’t talk with your mouth full”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Eating with chopsticks vs. knife and fork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Clothes and hairstyles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ypes of food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Sport and leisure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Religious beliefs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 Black"/>
              </a:rPr>
              <a:t>Anthropologists </a:t>
            </a:r>
            <a:r>
              <a:rPr b="0" lang="en-US" sz="2000" spc="-1" strike="noStrike">
                <a:solidFill>
                  <a:srgbClr val="993300"/>
                </a:solidFill>
                <a:latin typeface="Arial Black"/>
              </a:rPr>
              <a:t>(a very long word!)</a:t>
            </a:r>
            <a:endParaRPr b="0" lang="en-US" sz="2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Anthropologists are people who study human 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ultural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characteristics 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They look at 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ultural diversity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- the differences and similarities among cultures all over the world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 Black"/>
              </a:rPr>
              <a:t>George P. Murdoch</a:t>
            </a:r>
            <a:endParaRPr b="0" lang="en-US" sz="32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An important anthropologist, he made a list of characteristics he found in every culture in the world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Arial Black"/>
              </a:rPr>
              <a:t>What about you?</a:t>
            </a:r>
            <a:endParaRPr b="0" lang="en-US" sz="36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Using Murdoch’s list, choose the 5 most important cultural characteristics to you.  Are there any items that you feel you could absolutely live without?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c686"/>
                </a:solidFill>
                <a:latin typeface="Arial Black"/>
              </a:rPr>
              <a:t>Transmitting Culture</a:t>
            </a:r>
            <a:endParaRPr b="0" lang="en-US" sz="4000" spc="-1" strike="noStrike">
              <a:solidFill>
                <a:srgbClr val="f2c68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ulture is transmitted from one generation to the next.  We develop our culture from our parents, friends, and surroundings.  This is called ‘socialization’.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8T15:51:30Z</dcterms:created>
  <dc:creator>rebecca.kemshall</dc:creator>
  <dc:description/>
  <dc:language>en-US</dc:language>
  <cp:lastModifiedBy>Administrator</cp:lastModifiedBy>
  <dcterms:modified xsi:type="dcterms:W3CDTF">2007-01-22T19:02:00Z</dcterms:modified>
  <cp:revision>11</cp:revision>
  <dc:subject/>
  <dc:title>Culture</dc:title>
</cp:coreProperties>
</file>